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0F0C-AF6D-4791-9C5C-F0A583D2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522C-396B-4947-8798-932DC1C4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EE41-5BAD-4A63-AD7E-25B12690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05D9-6899-4653-8698-151095A6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DC9E-2F85-4BB7-A495-4DA0B557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CCAF-02E5-41FF-9545-0417C907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4A49-45F8-4BC8-864E-D8952800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27E2-5273-474D-9AA8-94228BDA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2995-6581-45B9-89CA-A01D1C82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56F4-0426-48F2-9D91-7674AFCD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5002-CEFC-4D1A-902E-D360848D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E5EDF-E568-4BC3-BDAB-661DC999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19B1-D651-44B5-9BBF-3C6DC2A1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63C9-8FE9-4B24-AA53-ED7FB12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0327-61F5-4759-9B8D-69796CFB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4495-7B7E-4896-BB1C-FD6FAF49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4480-A36F-4CE0-ABAA-45C7ED23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2473F-30EA-4BEE-B7A2-C51E5E2F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40A5-3165-47DD-A95B-BEA7B046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D40A8-F58B-43F6-8D94-3F40B11D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94A2-CF50-4377-A4BC-DEF6AED0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6098-84D3-4E35-A924-C95D6D6C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884C-5E56-415A-85B3-D6F6A691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65298-48A5-4DC2-94DD-401E0DE3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4560-9197-4686-8E60-46DD02FD15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294A-91CF-4E79-A948-504BB58C6E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es.wikipedia.org/wiki/Crimen_contra_la_humanidad" TargetMode="External"/><Relationship Id="rId3" Type="http://schemas.openxmlformats.org/officeDocument/2006/relationships/hyperlink" Target="http://es.wikipedia.org/wiki/Crimen_de_guerra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asaweb.google.com/xicu41/SSEinsatzgruppen/photo?authkey=KcZCfNfaifM#Slide 0" TargetMode="External"/><Relationship Id="rId2" Type="http://schemas.openxmlformats.org/officeDocument/2006/relationships/hyperlink" Target="http://picasaweb.google.com/xicu41/SSEinsatzgruppen/photo?authkey=KcZCfNfaifM#Slide 0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icasaweb.google.com/xicu41/SSEinsatzgruppen/photo?authkey=KcZCfNfaifM#Slide 0" TargetMode="External"/><Relationship Id="rId2" Type="http://schemas.openxmlformats.org/officeDocument/2006/relationships/hyperlink" Target="http://picasaweb.google.com/xicu41/SSEinsatzgruppen/photo?authkey=KcZCfNfaifM#Slide 0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dfd293"/>
                </a:solidFill>
                <a:latin typeface="Garamond"/>
              </a:rPr>
              <a:t>Centros móviles de matanza</a:t>
            </a:r>
            <a:endParaRPr b="1" lang="en-US" sz="66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fd293"/>
                </a:solidFill>
                <a:latin typeface="Garamond"/>
              </a:rPr>
              <a:t>3. Personas y razas a las que mataron principalmente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9280" y="1600200"/>
            <a:ext cx="4537080" cy="4525920"/>
            <a:chOff x="179280" y="1600200"/>
            <a:chExt cx="4537080" cy="45259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179280" y="1600200"/>
              <a:ext cx="45370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 txBox="1"/>
            <p:nvPr/>
          </p:nvSpPr>
          <p:spPr>
            <a:xfrm>
              <a:off x="179280" y="1600200"/>
              <a:ext cx="45370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Más de 1.000.000 de judí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cenas de miles de comisarios políticos soviéticos, partisanos, Roma (gitanos) y personas incapacitad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fd293"/>
                </a:solidFill>
                <a:latin typeface="Garamond"/>
              </a:rPr>
              <a:t>Modus operandi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1. En áreas urbanas conquistadas en Europa, muchos judíos eran asesinados en lugares cercanos como bosques o dentro de edificios. Los judíos restantes serían reunidos en guetos. Las muertes en estos últimos lugares por enfermedades y malnutrición eran altas, y periódicamente grupos de judíos eran deportados a campos de extermini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2. En pequeñas zonas rurales o de batalla, los judíos eran rápidamente dirigidos hacia su muerte en bosques e iglesias, en las cuales estaban junto a las víctimas de la guer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3. En grandes ciudades o zonas de batalla, los Nazis creaban un pequeño comité de 8 o 12 judíos importantes, conocidos como Judenrat, quienes serían requeridos para la “recolocación judía”. Les dejarían marchar cuando todos ellos (incluidos los Judenrat) cavaran una fosa o trinchera en la que serían ejecutado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4. También existían alternativas a las armas de fuego. Por ejemplo las granadas de humo usadas por el Einsatzgruppe D y el Einsatzkommando Kulmhof en Chelmno. Otra alternativa era encerrar a los judíos en edificios abandonados y derribarlo, pero esta era más rar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fd293"/>
                </a:solidFill>
                <a:latin typeface="Garamond"/>
              </a:rPr>
              <a:t>4. Testimonios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55640" y="162864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Una mañana, muy temprano, escuchamos que golpeaban las puertas y las ventanas, y gritaban "salgan, salgan, salgan". La gestapo estaba allí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stábamos todos desvestidos y teníamos que formar filas afuer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Formaron grupos, y comenzamos a caminar por la calle siguiendo a la otra gente. A medida que caminábamos por las calles, algunos ucranianos gritaban con entusiasmo cuando pasábamos y aplaudían y se alegraban de que eso nos estuviera sucediendo a nosotros. Seguimos caminando en silencio, sin decir nada, hasta que salimos de la ciuda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11280" y="1989000"/>
            <a:ext cx="3394080" cy="3560760"/>
            <a:chOff x="611280" y="1989000"/>
            <a:chExt cx="3394080" cy="35607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611280" y="1989000"/>
              <a:ext cx="339408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 txBox="1"/>
            <p:nvPr/>
          </p:nvSpPr>
          <p:spPr>
            <a:xfrm>
              <a:off x="611280" y="1989000"/>
              <a:ext cx="3394080" cy="356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ffffc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fd293"/>
                </a:solidFill>
                <a:latin typeface="Garamond"/>
              </a:rPr>
              <a:t>5. El fin de los centros móviles de matanza</a:t>
            </a:r>
            <a:br>
              <a:rPr sz="4000"/>
            </a:b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7200" y="1600200"/>
            <a:ext cx="4038480" cy="4525920"/>
            <a:chOff x="457200" y="1600200"/>
            <a:chExt cx="4038480" cy="45259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ffffc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Cargos de </a:t>
            </a:r>
            <a:r>
              <a:rPr b="0" lang="es-ES" sz="2000" spc="-1" strike="noStrike" u="sng">
                <a:solidFill>
                  <a:srgbClr val="ffffcc"/>
                </a:solidFill>
                <a:uFillTx/>
                <a:latin typeface="Garamond"/>
                <a:hlinkClick r:id="rId2"/>
              </a:rPr>
              <a:t>crímenes contra la humanidad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s-ES" sz="2000" spc="-1" strike="noStrike" u="sng">
                <a:solidFill>
                  <a:srgbClr val="ffffcc"/>
                </a:solidFill>
                <a:uFillTx/>
                <a:latin typeface="Garamond"/>
                <a:hlinkClick r:id="rId3"/>
              </a:rPr>
              <a:t>crímenes de la guerra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y calidad de miembros de las SS (que había sido declarada una organización criminal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conoció como el juicio de los Einsatzgruppen en los Juicios de Nuremberg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Catorce condenas a muerte y dos absoluciones resultaron de estos juicios, aunque solamente se practicaron cuatro ejecuciones el7 de junio de 1951, mientras el resto de las condenas fueron conmutada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fd293"/>
                </a:solidFill>
                <a:latin typeface="Garamond"/>
              </a:rPr>
              <a:t>6.Bibliografía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ttp://es.wikipedia.org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ttp://www.ushmm.org/.- United States Holocaust Memorial Muse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ttp://www.jewishvirtuallibrary.org/.- American Israeli Cooperative Enterprise (AIC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ttp://www.callejondelpau.es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fd293"/>
                </a:solidFill>
                <a:latin typeface="Garamond"/>
              </a:rPr>
              <a:t>Índice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Qué son y a qué unidades pertenecen. Organiz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Dónde aparecieron y dónde fueron principalmente utilizad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Personas y razas a las que mataron principalmente. Modus operand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Testimonios de personas que sufrieron ataques de los centros móviles de matanz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5. El fin de los centros móviles de matanz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6. Bibliografí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fd293"/>
                </a:solidFill>
                <a:latin typeface="Garamond"/>
              </a:rPr>
              <a:t>Hipótesis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Si el avance tecnológico y científico nazi en los centros móviles de matanza fue parte de que se hiciese posible la masac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fd293"/>
                </a:solidFill>
                <a:latin typeface="Garamond"/>
              </a:rPr>
              <a:t>1.Qué son y a qué unidades pertenecen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57200" y="1600200"/>
            <a:ext cx="4038480" cy="4525920"/>
            <a:chOff x="457200" y="1600200"/>
            <a:chExt cx="4038480" cy="45259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45720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on unidades de las SS y personal de la policía alemana. Bajo el mando de los agentes de la Policía de Seguridad (Sipo) y del Servicio de Seguridad (SD), los Einsatzgruppen tenían entre sus tareas el asesinato de personas percibidas como enemigos raciales o políticos que se encontraban detrás del frente en la Unión Soviética ocupad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fd293"/>
                </a:solidFill>
                <a:latin typeface="Garamond"/>
              </a:rPr>
              <a:t>Organización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abía 4 Einsatzgruppe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insatzgruppe 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insatzgruppe B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insatzgruppe C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insatzgruppe D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fd293"/>
                </a:solidFill>
                <a:latin typeface="Garamond"/>
              </a:rPr>
              <a:t>Jefes de los Einsatzgruppe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ranz Walter Stahlecker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insatzgruppen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 A) </a:t>
            </a:r>
            <a:br>
              <a:rPr sz="2800"/>
            </a:br>
            <a:r>
              <a:rPr b="0" i="1" lang="es-ES" sz="2800" spc="-1" strike="noStrike" u="sng">
                <a:solidFill>
                  <a:srgbClr val="ffffcc"/>
                </a:solidFill>
                <a:uFillTx/>
                <a:latin typeface="Garamond"/>
                <a:hlinkClick r:id="rId1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rthur Nebe (Einsatzgruppe B) </a:t>
            </a:r>
            <a:br>
              <a:rPr sz="2800"/>
            </a:br>
            <a:r>
              <a:rPr b="0" lang="es-ES" sz="2800" spc="-1" strike="noStrike" u="sng">
                <a:solidFill>
                  <a:srgbClr val="ffffcc"/>
                </a:solidFill>
                <a:uFillTx/>
                <a:latin typeface="Garamond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332000" y="2924280"/>
            <a:ext cx="1904760" cy="2171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292720" y="2924280"/>
            <a:ext cx="1905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Otto Rasch (Einsatzgruppen C) </a:t>
            </a:r>
            <a:br>
              <a:rPr sz="2800"/>
            </a:br>
            <a:r>
              <a:rPr b="0" lang="es-ES" sz="2800" spc="-1" strike="noStrike" u="sng">
                <a:solidFill>
                  <a:srgbClr val="ffffcc"/>
                </a:solidFill>
                <a:uFillTx/>
                <a:latin typeface="Garamond"/>
                <a:hlinkClick r:id="rId1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Otto Ohlendorf (Einsatzgruppen D) </a:t>
            </a:r>
            <a:br>
              <a:rPr sz="2800"/>
            </a:br>
            <a:r>
              <a:rPr b="0" lang="es-ES" sz="2800" spc="-1" strike="noStrike" u="sng">
                <a:solidFill>
                  <a:srgbClr val="ffffcc"/>
                </a:solidFill>
                <a:uFillTx/>
                <a:latin typeface="Garamond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2852640"/>
            <a:ext cx="1904760" cy="2533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364000" y="2924280"/>
            <a:ext cx="19051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2.Masacres en Europa oriental 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64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844280"/>
            <a:ext cx="8229600" cy="424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6:53:29Z</dcterms:created>
  <dc:creator>JuanMiguel</dc:creator>
  <dc:description/>
  <dc:language>en-US</dc:language>
  <cp:lastModifiedBy>JuanMiguel</cp:lastModifiedBy>
  <dcterms:modified xsi:type="dcterms:W3CDTF">2008-06-12T18:07:47Z</dcterms:modified>
  <cp:revision>3</cp:revision>
  <dc:subject/>
  <dc:title>Centros móviles de matanz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